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80625" cy="7559675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BCAA-576E-403C-8303-9284606EE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A2E9-11CF-4ECA-A2D6-ABA70A311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B068-5331-4807-A4E8-2A585963D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3F53-D4EC-4137-B5E6-3762E50E5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A110-DDF0-4918-95F4-63A88ECCC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6092-78CB-4330-8495-9A2FFD291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BB3B-4803-41B9-94A2-09028FB83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3C83-9397-4382-BDD3-B425F1F33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B653-9716-4CF1-ABDA-2D9DA84D6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8B42-4D24-480B-85DF-69D303D42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4020-49F1-4F88-BD1B-E5B3CFAA3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BF7B-1A8B-4111-AA50-C49580A9B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FC6C92-AD39-4D82-8B05-0A8DB5AA72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47840" y="2160720"/>
            <a:ext cx="5562720" cy="41716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936960" y="1600200"/>
            <a:ext cx="19400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Inclusion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29920" y="614376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like to dance to Michael Jacks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286080" y="360360"/>
            <a:ext cx="3487680" cy="525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29920" y="614376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like to dance to the Beatl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527120" y="360360"/>
            <a:ext cx="7002360" cy="525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20280" y="6217920"/>
            <a:ext cx="9069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like to danc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306440" y="198360"/>
            <a:ext cx="6629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29920" y="610344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like line dancing. I like to dance to country road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527120" y="360360"/>
            <a:ext cx="7002360" cy="525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29920" y="610344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 like to dance to “Who let the dogs out. Who… who… who?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781360" y="360360"/>
            <a:ext cx="4495680" cy="525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29920" y="614376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like to break danc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403360" y="360360"/>
            <a:ext cx="5253120" cy="525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29920" y="614376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like hip hop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270240" y="360360"/>
            <a:ext cx="3519360" cy="525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29920" y="614376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like rock ‘n roll dancin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085760" y="360360"/>
            <a:ext cx="7886880" cy="525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29920" y="614376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ist and shou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403360" y="360360"/>
            <a:ext cx="5253120" cy="525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29920" y="614376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like to dance to the Wiggl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932120" y="360360"/>
            <a:ext cx="6194160" cy="525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29920" y="610344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like to dance to with my girl friend Dorothy the dinosau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838600" y="360360"/>
            <a:ext cx="4379760" cy="5253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ary Bishop</dc:creator>
  <dc:description/>
  <dc:language>en-US</dc:language>
  <cp:lastModifiedBy>marshallp</cp:lastModifiedBy>
  <dcterms:modified xsi:type="dcterms:W3CDTF">2009-11-09T18:27:05Z</dcterms:modified>
  <cp:revision>2</cp:revision>
  <dc:subject/>
  <dc:title>dancing</dc:title>
</cp:coreProperties>
</file>